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start.wav" ContentType="audio/x-wav"/>
  <Override PartName="/ppt/media/image9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0C5F-D3F0-41C4-990F-4C0AD78B7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336B-04AE-4DDA-B547-30D443D5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F5D9-0D3D-4334-BF69-7AB2A1F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CA1E-6F02-4996-AED4-024115AE2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B1C32-66E0-4573-B3B7-CC2B290F37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6B64E-BAF2-4250-A9E2-22DED4F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37C6C-7EDF-416D-92B8-67F44A47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6FD33-050D-4615-AF47-FDD42E1E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F72D6-694C-4AF3-A3F6-60083B11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5223F-5FF3-4AAB-8EFD-E5732E53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2A1A-00C2-44BC-B103-5EF60FC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A81C-12A2-4124-B279-FA12F19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0EB6F-A5C1-4E09-BA9F-FD2F48A6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8F383-3BD5-4542-B623-CC5DAB76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281FF-B476-4D4D-9A82-96F4DF2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38AE7-0631-4187-91D0-C487BB2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D2FF-C434-4A1D-A52C-4663E135C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CE0-A3BC-4123-855B-173425977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789-47B5-484F-98D2-B2A6030D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516-1E92-47BC-929A-8E490B5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1493-0EAF-4AA5-B05F-BC2FC898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CA65-B825-453A-A551-DE5DBB32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4AFE-3489-4FCD-B123-6F082A5E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C4E1-1E5F-486C-8093-E7C2ECA6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CA44-8281-4D3B-A26E-1D323F25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8C76-04A8-4190-98ED-BFE9D3CB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67A2-ADEE-4370-9B3C-84C4CAF3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038-0F6D-4E27-B73F-644B4CD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BFC-A40D-464B-8961-4992E19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9829-B891-44FA-8643-AB48599B9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A0FE-F4A9-4411-8FB9-BB9638DF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D358-92BA-4412-B994-30A1D6BD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799B-41D0-43C5-81FF-34053B7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ED43-C6A9-41CD-A1B7-68B510F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1F4E-42EC-4A1E-ADFF-254B560E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2D06-4D49-4EC8-AD02-877493E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1AD3-EB54-44B0-8CA3-F0EB7F5A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8019-78D3-48EF-B7FC-F524DBBD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F5C4-9A02-4586-A1C2-2EB6200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8B55-6F6B-4B4C-A757-98C36AF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2FB4-5A03-4ACF-839F-8AEBA4DF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5E73-4487-48E5-8400-8317713C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0CFE-A134-407F-B280-4B0B52DB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92C3-3ABC-433E-97DC-8C3BC3BC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609F-D277-40F7-9C3D-F20BC94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E832-714A-4BA0-A134-C4E42442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733C-5302-4AF6-8AA1-BBC4DEA2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87B9-158B-402D-8498-D9E1E33A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1634-BE22-4574-8B56-0D2DE6FA3D6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3C6-C0FE-4198-9912-1E4D2FB1D21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7BB3-5085-4194-A3EA-9B49663DF31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E121-23F4-4B7D-8935-AA87451011F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8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9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A3A2-35C3-4A00-84BF-80418AEB3E6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9D7F-FFBE-4593-9170-680F46B664A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2195640" y="620640"/>
            <a:ext cx="53989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彩云"/>
                <a:ea typeface="宋体"/>
              </a:rPr>
              <a:t>圆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25892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圆的面积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95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Good Bye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96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98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1" lang="en-US" sz="6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9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0120" y="1689120"/>
            <a:ext cx="8467560" cy="3238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问题引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250920" y="1773360"/>
            <a:ext cx="8785080" cy="3274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42920" y="2120040"/>
            <a:ext cx="2189160" cy="2192760"/>
            <a:chOff x="1042920" y="2120040"/>
            <a:chExt cx="2189160" cy="2192760"/>
          </a:xfrm>
        </p:grpSpPr>
        <p:grpSp>
          <p:nvGrpSpPr>
            <p:cNvPr id="196" name=""/>
            <p:cNvGrpSpPr/>
            <p:nvPr/>
          </p:nvGrpSpPr>
          <p:grpSpPr>
            <a:xfrm>
              <a:off x="1042920" y="2120040"/>
              <a:ext cx="2189160" cy="2174040"/>
              <a:chOff x="1042920" y="2120040"/>
              <a:chExt cx="2189160" cy="2174040"/>
            </a:xfrm>
          </p:grpSpPr>
          <p:sp>
            <p:nvSpPr>
              <p:cNvPr id="197" name=""/>
              <p:cNvSpPr/>
              <p:nvPr/>
            </p:nvSpPr>
            <p:spPr>
              <a:xfrm>
                <a:off x="1042920" y="2133720"/>
                <a:ext cx="2159280" cy="2158920"/>
              </a:xfrm>
              <a:prstGeom prst="ellipse">
                <a:avLst/>
              </a:prstGeom>
              <a:noFill/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042920" y="2120040"/>
                <a:ext cx="2189160" cy="2174040"/>
                <a:chOff x="1042920" y="2120040"/>
                <a:chExt cx="2189160" cy="21740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042920" y="2133720"/>
                  <a:ext cx="2160720" cy="2160360"/>
                </a:xfrm>
                <a:prstGeom prst="rect">
                  <a:avLst/>
                </a:prstGeom>
                <a:noFill/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700000">
                  <a:off x="1368360" y="2436120"/>
                  <a:ext cx="1528200" cy="1528920"/>
                </a:xfrm>
                <a:prstGeom prst="rect">
                  <a:avLst/>
                </a:prstGeom>
                <a:noFill/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071720" y="3203640"/>
                  <a:ext cx="2160360" cy="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02" name=""/>
            <p:cNvSpPr/>
            <p:nvPr/>
          </p:nvSpPr>
          <p:spPr>
            <a:xfrm>
              <a:off x="2138400" y="2152440"/>
              <a:ext cx="0" cy="2160360"/>
            </a:xfrm>
            <a:prstGeom prst="line">
              <a:avLst/>
            </a:prstGeom>
            <a:ln w="1908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62200" y="3408480"/>
            <a:ext cx="5581800" cy="2971800"/>
            <a:chOff x="3562200" y="3408480"/>
            <a:chExt cx="5581800" cy="297180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>
              <a:off x="7121520" y="4581360"/>
              <a:ext cx="202248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27"/>
            <p:cNvSpPr/>
            <p:nvPr/>
          </p:nvSpPr>
          <p:spPr>
            <a:xfrm>
              <a:off x="3562200" y="3408480"/>
              <a:ext cx="4105440" cy="2036520"/>
            </a:xfrm>
            <a:prstGeom prst="wedgeRoundRectCallout">
              <a:avLst>
                <a:gd name="adj1" fmla="val 51236"/>
                <a:gd name="adj2" fmla="val 46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能不能和学过的图形联系起来呢？如果知道了圆的半径，可以计算出图中圆内外的两个正方形的面积，圆的面积介于这两个正方形面积之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0920" y="4581360"/>
            <a:ext cx="3700440" cy="1801800"/>
            <a:chOff x="250920" y="4581360"/>
            <a:chExt cx="3700440" cy="1801800"/>
          </a:xfrm>
        </p:grpSpPr>
        <p:sp>
          <p:nvSpPr>
            <p:cNvPr id="207" name="AutoShape 27"/>
            <p:cNvSpPr/>
            <p:nvPr/>
          </p:nvSpPr>
          <p:spPr>
            <a:xfrm>
              <a:off x="1719360" y="4726080"/>
              <a:ext cx="2232000" cy="936360"/>
            </a:xfrm>
            <a:prstGeom prst="wedgeRoundRectCallout">
              <a:avLst>
                <a:gd name="adj1" fmla="val -58888"/>
                <a:gd name="adj2" fmla="val -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计算一个圆的面积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 flipH="1">
              <a:off x="250920" y="458136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5022720" y="2708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8920" y="1384200"/>
            <a:ext cx="3777120" cy="1801800"/>
            <a:chOff x="178920" y="1384200"/>
            <a:chExt cx="3777120" cy="1801800"/>
          </a:xfrm>
        </p:grpSpPr>
        <p:sp>
          <p:nvSpPr>
            <p:cNvPr id="212" name="AutoShape 27"/>
            <p:cNvSpPr/>
            <p:nvPr/>
          </p:nvSpPr>
          <p:spPr>
            <a:xfrm>
              <a:off x="1724040" y="1528560"/>
              <a:ext cx="2232000" cy="936720"/>
            </a:xfrm>
            <a:prstGeom prst="wedgeRoundRectCallout">
              <a:avLst>
                <a:gd name="adj1" fmla="val -58888"/>
                <a:gd name="adj2" fmla="val -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们还有别的方法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 flipH="1">
              <a:off x="178920" y="1384200"/>
              <a:ext cx="1403640" cy="1801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4" name="ShockwaveFlash1"/>
          <p:cNvGraphicFramePr/>
          <p:nvPr/>
        </p:nvGraphicFramePr>
        <p:xfrm>
          <a:off x="1844640" y="2511360"/>
          <a:ext cx="5391360" cy="408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4640" y="2511360"/>
                    <a:ext cx="5391360" cy="408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787400" y="2482920"/>
            <a:ext cx="546732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522760" y="2397240"/>
            <a:ext cx="2880000" cy="971280"/>
          </a:xfrm>
          <a:prstGeom prst="rect">
            <a:avLst/>
          </a:prstGeom>
          <a:noFill/>
          <a:ln w="1908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1280" y="2209680"/>
            <a:ext cx="3537000" cy="17989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468360" y="434808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上图中可以看出圆的半径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长方形的长近似（              ），宽近似于（   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468360" y="515952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为长方形的面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468360" y="563076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以圆面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468360" y="61088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圆的面积，那么圆的面积计算公式就是 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6315120" y="43848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圆周长的一半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1951200" y="4770360"/>
            <a:ext cx="12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圆的半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3203640" y="51544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4600440" y="51544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宽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2278080" y="561168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Box 22"/>
          <p:cNvSpPr/>
          <p:nvPr/>
        </p:nvSpPr>
        <p:spPr>
          <a:xfrm>
            <a:off x="3782880" y="55990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隶书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Box 23"/>
          <p:cNvSpPr/>
          <p:nvPr/>
        </p:nvSpPr>
        <p:spPr>
          <a:xfrm>
            <a:off x="4932360" y="56088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隶书"/>
              </a:rPr>
              <a:t>²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直接连接符 3"/>
          <p:cNvSpPr/>
          <p:nvPr/>
        </p:nvSpPr>
        <p:spPr>
          <a:xfrm>
            <a:off x="630360" y="3284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直接连接符 27"/>
          <p:cNvSpPr/>
          <p:nvPr/>
        </p:nvSpPr>
        <p:spPr>
          <a:xfrm flipH="1">
            <a:off x="3522600" y="2311560"/>
            <a:ext cx="115920" cy="95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33"/>
          <p:cNvSpPr/>
          <p:nvPr/>
        </p:nvSpPr>
        <p:spPr>
          <a:xfrm>
            <a:off x="6626160" y="6089760"/>
            <a:ext cx="1552680" cy="398880"/>
          </a:xfrm>
          <a:prstGeom prst="rect">
            <a:avLst/>
          </a:prstGeom>
          <a:solidFill>
            <a:srgbClr val="33cc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隶书"/>
              </a:rPr>
              <a:t>²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312840" y="1484280"/>
            <a:ext cx="641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探索圆面积的计算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"/>
          <p:cNvSpPr/>
          <p:nvPr/>
        </p:nvSpPr>
        <p:spPr>
          <a:xfrm>
            <a:off x="2063520" y="3465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53351 0.01041 E">
                                      <p:cBhvr>
                                        <p:cTn id="3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21094 0.01574 E">
                                      <p:cBhvr>
                                        <p:cTn id="3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80000">
                                      <p:cBhvr>
                                        <p:cTn id="4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250920" y="2708280"/>
            <a:ext cx="4104720" cy="1279440"/>
            <a:chOff x="250920" y="2708280"/>
            <a:chExt cx="4104720" cy="1279440"/>
          </a:xfrm>
        </p:grpSpPr>
        <p:pic>
          <p:nvPicPr>
            <p:cNvPr id="237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250920" y="2708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7"/>
            <p:cNvSpPr/>
            <p:nvPr/>
          </p:nvSpPr>
          <p:spPr>
            <a:xfrm>
              <a:off x="1908000" y="2997360"/>
              <a:ext cx="2447640" cy="934920"/>
            </a:xfrm>
            <a:prstGeom prst="wedgeRoundRectCallout">
              <a:avLst>
                <a:gd name="adj1" fmla="val -60828"/>
                <a:gd name="adj2" fmla="val 11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题目中你都知道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539640" y="234936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圆形草坪的直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平方米草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。铺满草皮需要多少钱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3379680" y="3500280"/>
            <a:ext cx="28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3379680" y="4684680"/>
            <a:ext cx="28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3362400" y="4108320"/>
            <a:ext cx="28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3203640" y="519444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铺满草皮需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312840" y="1484280"/>
            <a:ext cx="641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应用公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95640" y="4221000"/>
            <a:ext cx="4568760" cy="1801800"/>
            <a:chOff x="3995640" y="4221000"/>
            <a:chExt cx="4568760" cy="1801800"/>
          </a:xfrm>
        </p:grpSpPr>
        <p:sp>
          <p:nvSpPr>
            <p:cNvPr id="247" name="AutoShape 27"/>
            <p:cNvSpPr/>
            <p:nvPr/>
          </p:nvSpPr>
          <p:spPr>
            <a:xfrm>
              <a:off x="3995640" y="4437000"/>
              <a:ext cx="3024360" cy="1368360"/>
            </a:xfrm>
            <a:prstGeom prst="wedgeRoundRectCallout">
              <a:avLst>
                <a:gd name="adj1" fmla="val 59134"/>
                <a:gd name="adj2" fmla="val -100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求铺满草皮需要多少钱，先要求出圆形草坪的面积是多少平方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7161120" y="422100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4"/>
              <p:cNvSpPr txBox="1"/>
              <p:nvPr/>
            </p:nvSpPr>
            <p:spPr>
              <a:xfrm>
                <a:off x="8701200" y="4873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1" name="TextBox 13"/>
          <p:cNvSpPr/>
          <p:nvPr/>
        </p:nvSpPr>
        <p:spPr>
          <a:xfrm>
            <a:off x="1042920" y="2349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光盘的银色部分是一个圆环，内圆半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外圆半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圆环的面积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21"/>
          <p:cNvSpPr/>
          <p:nvPr/>
        </p:nvSpPr>
        <p:spPr>
          <a:xfrm>
            <a:off x="1790640" y="501336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4×6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4×2²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1495440" y="53830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3.0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1495440" y="57420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.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Box 25"/>
          <p:cNvSpPr/>
          <p:nvPr/>
        </p:nvSpPr>
        <p:spPr>
          <a:xfrm>
            <a:off x="5170320" y="4900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4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Box 26"/>
          <p:cNvSpPr/>
          <p:nvPr/>
        </p:nvSpPr>
        <p:spPr>
          <a:xfrm>
            <a:off x="4903920" y="529272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913280" y="56530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.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2268360" y="6283440"/>
            <a:ext cx="549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圆环的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.48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312840" y="1484280"/>
            <a:ext cx="641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探索圆环面积的计算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1778040" cy="179856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79280" y="3357720"/>
            <a:ext cx="4824360" cy="1279440"/>
            <a:chOff x="179280" y="3357720"/>
            <a:chExt cx="4824360" cy="1279440"/>
          </a:xfrm>
        </p:grpSpPr>
        <p:pic>
          <p:nvPicPr>
            <p:cNvPr id="262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179280" y="335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AutoShape 27"/>
            <p:cNvSpPr/>
            <p:nvPr/>
          </p:nvSpPr>
          <p:spPr>
            <a:xfrm>
              <a:off x="1836720" y="3646440"/>
              <a:ext cx="3166920" cy="935280"/>
            </a:xfrm>
            <a:prstGeom prst="wedgeRoundRectCallout">
              <a:avLst>
                <a:gd name="adj1" fmla="val -58370"/>
                <a:gd name="adj2" fmla="val 11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利用内圆和外圆的面积求出圆环的面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98360" y="4705200"/>
            <a:ext cx="3841920" cy="1801800"/>
            <a:chOff x="198360" y="4705200"/>
            <a:chExt cx="3841920" cy="1801800"/>
          </a:xfrm>
        </p:grpSpPr>
        <p:sp>
          <p:nvSpPr>
            <p:cNvPr id="265" name="AutoShape 27"/>
            <p:cNvSpPr/>
            <p:nvPr/>
          </p:nvSpPr>
          <p:spPr>
            <a:xfrm>
              <a:off x="1547640" y="4870440"/>
              <a:ext cx="2492640" cy="501840"/>
            </a:xfrm>
            <a:prstGeom prst="wedgeRoundRectCallout">
              <a:avLst>
                <a:gd name="adj1" fmla="val -56814"/>
                <a:gd name="adj2" fmla="val 455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想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 flipH="1">
              <a:off x="198360" y="470520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5076720" y="3933720"/>
            <a:ext cx="4327560" cy="1798560"/>
            <a:chOff x="5076720" y="3933720"/>
            <a:chExt cx="4327560" cy="1798560"/>
          </a:xfrm>
        </p:grpSpPr>
        <p:sp>
          <p:nvSpPr>
            <p:cNvPr id="268" name="AutoShape 27"/>
            <p:cNvSpPr/>
            <p:nvPr/>
          </p:nvSpPr>
          <p:spPr>
            <a:xfrm>
              <a:off x="5076720" y="4147920"/>
              <a:ext cx="2808360" cy="576360"/>
            </a:xfrm>
            <a:prstGeom prst="wedgeRoundRectCallout">
              <a:avLst>
                <a:gd name="adj1" fmla="val 52374"/>
                <a:gd name="adj2" fmla="val 596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这样计算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 flipH="1">
              <a:off x="7381800" y="3933720"/>
              <a:ext cx="20224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611280" y="18446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个圆形茶几桌面的直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它的面积是多少平方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2576520" y="241128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.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647800" y="294804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.5²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.78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²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2000160" y="349236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它的面积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.78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²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51280" y="4149720"/>
            <a:ext cx="4441680" cy="2004480"/>
            <a:chOff x="3851280" y="4149720"/>
            <a:chExt cx="4441680" cy="2004480"/>
          </a:xfrm>
        </p:grpSpPr>
        <p:sp>
          <p:nvSpPr>
            <p:cNvPr id="276" name="AutoShape 27"/>
            <p:cNvSpPr/>
            <p:nvPr/>
          </p:nvSpPr>
          <p:spPr>
            <a:xfrm>
              <a:off x="3851280" y="4149720"/>
              <a:ext cx="2808360" cy="936360"/>
            </a:xfrm>
            <a:prstGeom prst="wedgeRoundRectCallout">
              <a:avLst>
                <a:gd name="adj1" fmla="val 55425"/>
                <a:gd name="adj2" fmla="val 5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求出半径，再求圆的面积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 flipH="1">
              <a:off x="6270480" y="4356000"/>
              <a:ext cx="2022480" cy="179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1746000" y="2952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"/>
          <p:cNvSpPr/>
          <p:nvPr/>
        </p:nvSpPr>
        <p:spPr>
          <a:xfrm>
            <a:off x="1962000" y="3168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1432080" y="3182760"/>
            <a:ext cx="62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0÷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÷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574640" y="525456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：草坪的占地面积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88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755640" y="184464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个圆形环岛的直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中间是一个直径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形花坛，其他地方是草坪。草坪的占地面积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1432080" y="3683160"/>
            <a:ext cx="42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14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²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²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1144440" y="4183200"/>
            <a:ext cx="42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14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1144440" y="4683240"/>
            <a:ext cx="42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8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53280" y="2251080"/>
            <a:ext cx="147168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4116240" y="3760920"/>
            <a:ext cx="4356000" cy="2017440"/>
            <a:chOff x="4116240" y="3760920"/>
            <a:chExt cx="4356000" cy="2017440"/>
          </a:xfrm>
        </p:grpSpPr>
        <p:sp>
          <p:nvSpPr>
            <p:cNvPr id="289" name="AutoShape 27"/>
            <p:cNvSpPr/>
            <p:nvPr/>
          </p:nvSpPr>
          <p:spPr>
            <a:xfrm>
              <a:off x="4116240" y="3760920"/>
              <a:ext cx="3024000" cy="936360"/>
            </a:xfrm>
            <a:prstGeom prst="wedgeRoundRectCallout">
              <a:avLst>
                <a:gd name="adj1" fmla="val 56351"/>
                <a:gd name="adj2" fmla="val 33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求草坪的占地面积，也就是求圆环的面积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7068960" y="397656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全课总结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今天都有哪些收获？还有什么问题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梯田文化</cp:lastModifiedBy>
  <dcterms:modified xsi:type="dcterms:W3CDTF">2018-04-20T07:54:19Z</dcterms:modified>
  <cp:revision>312</cp:revision>
  <dc:subject/>
  <dc:title>幻灯片 1</dc:title>
</cp:coreProperties>
</file>